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948488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48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35160" y="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2640" y="698400"/>
            <a:ext cx="4660920" cy="3495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3516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4328-1F6B-47CD-AF1E-34F5C54F1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D0F0-1224-4061-AF41-4532A7F32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61DC-785B-4E06-81AD-49DB8923B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EFF-3538-43BA-A912-08A93A5EE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BE9A-5C8C-4AE3-B21B-6BC29C4E1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F76A-8FD8-4F34-9208-B48B012A9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E4FB-F13D-4AB0-B115-62290A330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5E8F-D4EE-4DB0-B96B-AF31F310A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F314-112E-49A7-8F9E-EDC2835C3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3E5-9B3F-4844-98C5-2C396FD03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4AE4-7D8F-431F-82CC-009F4A874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98400"/>
            <a:ext cx="4660920" cy="3495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427280"/>
            <a:ext cx="555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935520" y="8853480"/>
            <a:ext cx="3009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BCAD-0119-4B12-915E-77EE59581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DFAB-B754-4919-8073-5EA388D6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15D-A15B-46B0-800B-98AEC549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B93-4334-4498-B8EF-F4E36990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5DB-FC46-4444-8ABF-4D924B7E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A769-9D74-47BD-876D-D332A434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1778-6C1B-4771-BF17-EF00FC24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EE5B-73BA-429E-B256-6DE2253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EF2C-FBDC-48F4-A458-815115A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46E4-535F-4883-8589-2D375913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3257-0B31-4C95-978B-590781C1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F10C-4444-49B5-A4AB-42534F65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08B1-20CE-42FD-BFC0-C772033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0380-8C4A-4DFC-A68D-B7372DE2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DFCE-4686-47AD-A412-C4383E63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B34-AEFB-4DFF-ABCA-BE5A33AA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7ED3-3901-430A-8739-3914A85E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9DE3-5C53-4F30-8F3C-91B3F5CE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E713-0EF4-4384-B1EE-A60339F2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567C1-E313-41D6-BD8A-D96D429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F8C97-F091-48B4-B96A-8AB0A273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2444B-8037-466C-BC9D-405E2CD0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4790-DEDF-43B4-B53A-8BC048CE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A3D-D130-4702-8E19-E89AC365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2F80-8DA5-43CA-9420-20C2CD26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4EBA-EEFD-4C3E-A2D5-CC0409C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EA91-B206-4C5E-A43A-77F6A7D8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77996-66B3-4E18-A476-6BE95AD5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FF03-FBB4-4D38-A2A1-D765537E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D809-3013-48EA-90DF-07077B7C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A4EF-8E03-41B4-88B8-6906E9B0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FDC-BBC9-42C8-82B5-46491836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1F4-4F64-4CBD-91E3-BF1CECDA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6FD-F13F-4A22-8E7E-5017805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6B3-F141-4029-89FC-1B1B6DA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2AE9-9C1C-46B3-B040-D38D1DF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692-FA3D-4E08-849B-9C73EFB1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AB46-DF6C-41BF-A4EB-C26393089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Manual Input 6"/>
          <p:cNvGrpSpPr/>
          <p:nvPr/>
        </p:nvGrpSpPr>
        <p:grpSpPr>
          <a:xfrm>
            <a:off x="-30240" y="-30240"/>
            <a:ext cx="1047960" cy="6912000"/>
            <a:chOff x="-30240" y="-30240"/>
            <a:chExt cx="1047960" cy="6912000"/>
          </a:xfrm>
        </p:grpSpPr>
        <p:pic>
          <p:nvPicPr>
            <p:cNvPr id="42" name="Flowchart: Manual Input 6" descr=""/>
            <p:cNvPicPr/>
            <p:nvPr/>
          </p:nvPicPr>
          <p:blipFill>
            <a:blip r:embed="rId2"/>
            <a:stretch/>
          </p:blipFill>
          <p:spPr>
            <a:xfrm>
              <a:off x="-30240" y="-30240"/>
              <a:ext cx="104796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5400000">
              <a:off x="-3032280" y="3031920"/>
              <a:ext cx="68580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05D7-2E9B-4A32-A09F-030682F34D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nip Diagonal Corner Rectangle 6"/>
          <p:cNvSpPr/>
          <p:nvPr/>
        </p:nvSpPr>
        <p:spPr>
          <a:xfrm>
            <a:off x="0" y="0"/>
            <a:ext cx="9144000" cy="1295280"/>
          </a:xfrm>
          <a:prstGeom prst="pie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extBox 7" descr=""/>
          <p:cNvPicPr/>
          <p:nvPr/>
        </p:nvPicPr>
        <p:blipFill>
          <a:blip r:embed="rId2"/>
          <a:stretch/>
        </p:blipFill>
        <p:spPr>
          <a:xfrm>
            <a:off x="6095880" y="847800"/>
            <a:ext cx="3084480" cy="457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AFC4-78AA-42EB-8035-6FDEEC7DD9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lectric Proper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pyrko Research Group. UCS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t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ng Woo 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Klein tunn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929, Oscar Kl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unnel barrier can become fully transparent for normal incidence of massless partic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st in graphene was suggested by Katsnelson, Geim and Noveselov in 2006 and verified by Young and Kim in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voselov et al. Nature. 438, 197-200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400" spc="-1" strike="noStrike">
                <a:solidFill>
                  <a:srgbClr val="000000"/>
                </a:solidFill>
                <a:latin typeface="Calibri"/>
              </a:rPr>
              <a:t>Zhang et al. Phys. Lett. 86, 073104 (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F. Young et al. Nature Phys. 5, 222 (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K. Geim. Science Vol. 324. no. 5934, pp. 1530 – 1534(2009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010 Nobel Prize for Phys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127160" y="2346480"/>
            <a:ext cx="3463920" cy="2097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913320" y="4659480"/>
            <a:ext cx="78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hysicists Konstantin Novoselov (left) and Andre Geim of University of Manches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ight Arrow 3"/>
          <p:cNvSpPr/>
          <p:nvPr/>
        </p:nvSpPr>
        <p:spPr>
          <a:xfrm>
            <a:off x="457200" y="3505320"/>
            <a:ext cx="7620120" cy="228600"/>
          </a:xfrm>
          <a:prstGeom prst="righ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19920" y="388620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ory of Graph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. R. Wall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4813920" y="380988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olated atomic layer from graphit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. K. Geim, K. S. Novoseol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72760" y="2308320"/>
            <a:ext cx="247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less Dirac equ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 Graphe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. W. Semenof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5189040" y="4470480"/>
            <a:ext cx="315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[Fabrication techniques]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V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pitaxial growth on S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emical method by reducing ag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67104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236448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98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478512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5699520" y="316692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5778720" y="2316240"/>
            <a:ext cx="3125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ssless Dirac Fermion Prov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. K. Geim, K. S. Novoseolv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. Zhang, P. Ki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2176200" y="518148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ulle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Bucky ball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800600" cy="35449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5" name="TextBox 7"/>
          <p:cNvSpPr/>
          <p:nvPr/>
        </p:nvSpPr>
        <p:spPr>
          <a:xfrm>
            <a:off x="3917160" y="51814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notu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5830560" y="518148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aph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1616760" y="6291360"/>
            <a:ext cx="28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Nobel Prize in Chemistry 19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57472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0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442260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6156000" y="586728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en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in, mechanically strong, transparent and flexible condu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n be used in touch screen,  light panel, solar cells (ITO) and flexible displa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730680" y="2968560"/>
            <a:ext cx="21826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ified Exotic Electrical Behavi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ac Fermions with zero effectiv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Integer 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voselov, et al. Nature (2005), Zhang et al, Nature (20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lein Tunn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F. Young and P. Kim, Nature (200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sited top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um dot, p-n junction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anoribbons, quantum point conta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magnetotransport near neutrality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ptional Band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3983040" cy="312408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168" name="Group 22"/>
          <p:cNvGrpSpPr/>
          <p:nvPr/>
        </p:nvGrpSpPr>
        <p:grpSpPr>
          <a:xfrm>
            <a:off x="6477120" y="3276720"/>
            <a:ext cx="838080" cy="1430280"/>
            <a:chOff x="6477120" y="3276720"/>
            <a:chExt cx="838080" cy="1430280"/>
          </a:xfrm>
        </p:grpSpPr>
        <p:grpSp>
          <p:nvGrpSpPr>
            <p:cNvPr id="169" name="Group 8"/>
            <p:cNvGrpSpPr/>
            <p:nvPr/>
          </p:nvGrpSpPr>
          <p:grpSpPr>
            <a:xfrm>
              <a:off x="6514920" y="4038480"/>
              <a:ext cx="762120" cy="668520"/>
              <a:chOff x="6514920" y="4038480"/>
              <a:chExt cx="762120" cy="668520"/>
            </a:xfrm>
          </p:grpSpPr>
          <p:sp>
            <p:nvSpPr>
              <p:cNvPr id="170" name="Oval 9"/>
              <p:cNvSpPr/>
              <p:nvPr/>
            </p:nvSpPr>
            <p:spPr>
              <a:xfrm>
                <a:off x="6514920" y="4537800"/>
                <a:ext cx="762120" cy="169200"/>
              </a:xfrm>
              <a:prstGeom prst="ellipse">
                <a:avLst/>
              </a:prstGeom>
              <a:solidFill>
                <a:srgbClr val="e46c0a"/>
              </a:solidFill>
              <a:ln w="1908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Isosceles Triangle 10"/>
              <p:cNvSpPr/>
              <p:nvPr/>
            </p:nvSpPr>
            <p:spPr>
              <a:xfrm>
                <a:off x="6514920" y="4038480"/>
                <a:ext cx="762120" cy="592560"/>
              </a:xfrm>
              <a:prstGeom prst="triangle">
                <a:avLst>
                  <a:gd name="adj" fmla="val 50000"/>
                </a:avLst>
              </a:prstGeom>
              <a:solidFill>
                <a:srgbClr val="e46c0a"/>
              </a:solidFill>
              <a:ln w="25560">
                <a:solidFill>
                  <a:srgbClr val="98480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Trapezoid 11"/>
              <p:cNvSpPr/>
              <p:nvPr/>
            </p:nvSpPr>
            <p:spPr>
              <a:xfrm>
                <a:off x="6514920" y="4478400"/>
                <a:ext cx="762120" cy="169200"/>
              </a:xfrm>
              <a:prstGeom prst="pie">
                <a:avLst/>
              </a:pr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3" name="Group 13"/>
            <p:cNvGrpSpPr/>
            <p:nvPr/>
          </p:nvGrpSpPr>
          <p:grpSpPr>
            <a:xfrm>
              <a:off x="6477120" y="3276720"/>
              <a:ext cx="838080" cy="744480"/>
              <a:chOff x="6477120" y="3276720"/>
              <a:chExt cx="838080" cy="744480"/>
            </a:xfrm>
          </p:grpSpPr>
          <p:sp>
            <p:nvSpPr>
              <p:cNvPr id="174" name="Isosceles Triangle 14"/>
              <p:cNvSpPr/>
              <p:nvPr/>
            </p:nvSpPr>
            <p:spPr>
              <a:xfrm rot="10800000">
                <a:off x="6477120" y="3369240"/>
                <a:ext cx="838080" cy="651960"/>
              </a:xfrm>
              <a:prstGeom prst="triangle">
                <a:avLst>
                  <a:gd name="adj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Oval 15"/>
              <p:cNvSpPr/>
              <p:nvPr/>
            </p:nvSpPr>
            <p:spPr>
              <a:xfrm>
                <a:off x="6477120" y="3276720"/>
                <a:ext cx="838080" cy="186120"/>
              </a:xfrm>
              <a:prstGeom prst="ellipse">
                <a:avLst/>
              </a:prstGeom>
              <a:solidFill>
                <a:srgbClr val="b9cde5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6" name="Oval 23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7" name="Straight Arrow Connector 25"/>
          <p:cNvCxnSpPr>
            <a:stCxn id="176" idx="6"/>
          </p:cNvCxnSpPr>
          <p:nvPr/>
        </p:nvCxnSpPr>
        <p:spPr>
          <a:xfrm flipV="1">
            <a:off x="4419720" y="4037760"/>
            <a:ext cx="1753200" cy="343800"/>
          </a:xfrm>
          <a:prstGeom prst="straightConnector1">
            <a:avLst/>
          </a:prstGeom>
          <a:ln w="1908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78" name="Straight Arrow Connector 3"/>
          <p:cNvCxnSpPr/>
          <p:nvPr/>
        </p:nvCxnSpPr>
        <p:spPr>
          <a:xfrm flipH="1" flipV="1">
            <a:off x="7219440" y="4059000"/>
            <a:ext cx="324720" cy="13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9" name="TextBox 4"/>
          <p:cNvSpPr/>
          <p:nvPr/>
        </p:nvSpPr>
        <p:spPr>
          <a:xfrm>
            <a:off x="7623000" y="4114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ac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Straight Arrow Connector 18"/>
          <p:cNvCxnSpPr/>
          <p:nvPr/>
        </p:nvCxnSpPr>
        <p:spPr>
          <a:xfrm flipV="1">
            <a:off x="1360080" y="4369680"/>
            <a:ext cx="1002600" cy="337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21"/>
          <p:cNvSpPr/>
          <p:nvPr/>
        </p:nvSpPr>
        <p:spPr>
          <a:xfrm>
            <a:off x="199080" y="4734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llouin Z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2" name="Straight Arrow Connector 24"/>
          <p:cNvCxnSpPr/>
          <p:nvPr/>
        </p:nvCxnSpPr>
        <p:spPr>
          <a:xfrm flipH="1">
            <a:off x="7276320" y="3370320"/>
            <a:ext cx="353160" cy="194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26"/>
          <p:cNvSpPr/>
          <p:nvPr/>
        </p:nvSpPr>
        <p:spPr>
          <a:xfrm>
            <a:off x="7645680" y="31352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ac C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Band Struc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2495520" y="2514600"/>
            <a:ext cx="685800" cy="914040"/>
            <a:chOff x="2495520" y="2514600"/>
            <a:chExt cx="685800" cy="914040"/>
          </a:xfrm>
        </p:grpSpPr>
        <p:sp>
          <p:nvSpPr>
            <p:cNvPr id="187" name="Freeform 10"/>
            <p:cNvSpPr/>
            <p:nvPr/>
          </p:nvSpPr>
          <p:spPr>
            <a:xfrm>
              <a:off x="2495520" y="2514600"/>
              <a:ext cx="642960" cy="3848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1"/>
            <p:cNvSpPr/>
            <p:nvPr/>
          </p:nvSpPr>
          <p:spPr>
            <a:xfrm rot="10800000">
              <a:off x="2538360" y="3043800"/>
              <a:ext cx="642960" cy="384840"/>
            </a:xfrm>
            <a:prstGeom prst="pie">
              <a:avLst/>
            </a:prstGeom>
            <a:noFill/>
            <a:ln w="38160">
              <a:solidFill>
                <a:srgbClr val="9bbb5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89" name="Straight Arrow Connector 14"/>
          <p:cNvCxnSpPr/>
          <p:nvPr/>
        </p:nvCxnSpPr>
        <p:spPr>
          <a:xfrm flipV="1">
            <a:off x="2189520" y="2285280"/>
            <a:ext cx="2520" cy="12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90" name="Group 30"/>
          <p:cNvGrpSpPr/>
          <p:nvPr/>
        </p:nvGrpSpPr>
        <p:grpSpPr>
          <a:xfrm>
            <a:off x="2305080" y="5351400"/>
            <a:ext cx="762120" cy="668520"/>
            <a:chOff x="2305080" y="5351400"/>
            <a:chExt cx="762120" cy="668520"/>
          </a:xfrm>
        </p:grpSpPr>
        <p:sp>
          <p:nvSpPr>
            <p:cNvPr id="191" name="Oval 29"/>
            <p:cNvSpPr/>
            <p:nvPr/>
          </p:nvSpPr>
          <p:spPr>
            <a:xfrm>
              <a:off x="2305080" y="5850720"/>
              <a:ext cx="762120" cy="169200"/>
            </a:xfrm>
            <a:prstGeom prst="ellipse">
              <a:avLst/>
            </a:prstGeom>
            <a:solidFill>
              <a:srgbClr val="e46c0a"/>
            </a:solidFill>
            <a:ln w="1908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Isosceles Triangle 28"/>
            <p:cNvSpPr/>
            <p:nvPr/>
          </p:nvSpPr>
          <p:spPr>
            <a:xfrm>
              <a:off x="2305080" y="5351400"/>
              <a:ext cx="762120" cy="592560"/>
            </a:xfrm>
            <a:prstGeom prst="triangle">
              <a:avLst>
                <a:gd name="adj" fmla="val 50000"/>
              </a:avLst>
            </a:prstGeom>
            <a:solidFill>
              <a:srgbClr val="e46c0a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rapezoid 27"/>
            <p:cNvSpPr/>
            <p:nvPr/>
          </p:nvSpPr>
          <p:spPr>
            <a:xfrm>
              <a:off x="2305080" y="5791320"/>
              <a:ext cx="762120" cy="169200"/>
            </a:xfrm>
            <a:prstGeom prst="pie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Parallelogram 25"/>
          <p:cNvSpPr/>
          <p:nvPr/>
        </p:nvSpPr>
        <p:spPr>
          <a:xfrm flipH="1">
            <a:off x="1809720" y="5181480"/>
            <a:ext cx="1752480" cy="381240"/>
          </a:xfrm>
          <a:prstGeom prst="parallelogram">
            <a:avLst>
              <a:gd name="adj" fmla="val 90084"/>
            </a:avLst>
          </a:prstGeom>
          <a:noFill/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18"/>
          <p:cNvGrpSpPr/>
          <p:nvPr/>
        </p:nvGrpSpPr>
        <p:grpSpPr>
          <a:xfrm>
            <a:off x="2266920" y="4589640"/>
            <a:ext cx="838080" cy="744480"/>
            <a:chOff x="2266920" y="4589640"/>
            <a:chExt cx="838080" cy="744480"/>
          </a:xfrm>
        </p:grpSpPr>
        <p:sp>
          <p:nvSpPr>
            <p:cNvPr id="196" name="Isosceles Triangle 15"/>
            <p:cNvSpPr/>
            <p:nvPr/>
          </p:nvSpPr>
          <p:spPr>
            <a:xfrm rot="10800000">
              <a:off x="2266920" y="4682520"/>
              <a:ext cx="838080" cy="6516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Oval 17"/>
            <p:cNvSpPr/>
            <p:nvPr/>
          </p:nvSpPr>
          <p:spPr>
            <a:xfrm>
              <a:off x="2266920" y="4589640"/>
              <a:ext cx="838080" cy="186120"/>
            </a:xfrm>
            <a:prstGeom prst="ellipse">
              <a:avLst/>
            </a:prstGeom>
            <a:solidFill>
              <a:srgbClr val="b9cde5"/>
            </a:soli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98" name="Straight Arrow Connector 32"/>
          <p:cNvCxnSpPr/>
          <p:nvPr/>
        </p:nvCxnSpPr>
        <p:spPr>
          <a:xfrm>
            <a:off x="2342880" y="3657600"/>
            <a:ext cx="11437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Box 33"/>
          <p:cNvSpPr/>
          <p:nvPr/>
        </p:nvSpPr>
        <p:spPr>
          <a:xfrm>
            <a:off x="1365120" y="27432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4"/>
          <p:cNvSpPr/>
          <p:nvPr/>
        </p:nvSpPr>
        <p:spPr>
          <a:xfrm>
            <a:off x="2273400" y="373392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ment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44"/>
          <p:cNvGrpSpPr/>
          <p:nvPr/>
        </p:nvGrpSpPr>
        <p:grpSpPr>
          <a:xfrm>
            <a:off x="2684880" y="5333760"/>
            <a:ext cx="611280" cy="228960"/>
            <a:chOff x="2684880" y="5333760"/>
            <a:chExt cx="611280" cy="228960"/>
          </a:xfrm>
        </p:grpSpPr>
        <p:cxnSp>
          <p:nvCxnSpPr>
            <p:cNvPr id="202" name="Straight Arrow Connector 35"/>
            <p:cNvCxnSpPr/>
            <p:nvPr/>
          </p:nvCxnSpPr>
          <p:spPr>
            <a:xfrm>
              <a:off x="2685960" y="5334120"/>
              <a:ext cx="61056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Straight Arrow Connector 38"/>
            <p:cNvCxnSpPr/>
            <p:nvPr/>
          </p:nvCxnSpPr>
          <p:spPr>
            <a:xfrm>
              <a:off x="2684880" y="5333760"/>
              <a:ext cx="26712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204" name="Straight Arrow Connector 42"/>
          <p:cNvCxnSpPr/>
          <p:nvPr/>
        </p:nvCxnSpPr>
        <p:spPr>
          <a:xfrm flipV="1">
            <a:off x="2722680" y="434448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45"/>
          <p:cNvSpPr/>
          <p:nvPr/>
        </p:nvSpPr>
        <p:spPr>
          <a:xfrm>
            <a:off x="2728080" y="4419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46"/>
          <p:cNvSpPr/>
          <p:nvPr/>
        </p:nvSpPr>
        <p:spPr>
          <a:xfrm>
            <a:off x="2881800" y="53308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ment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47"/>
          <p:cNvSpPr/>
          <p:nvPr/>
        </p:nvSpPr>
        <p:spPr>
          <a:xfrm>
            <a:off x="2958480" y="27432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nd G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Arrow 48"/>
          <p:cNvSpPr/>
          <p:nvPr/>
        </p:nvSpPr>
        <p:spPr>
          <a:xfrm>
            <a:off x="4400640" y="2819520"/>
            <a:ext cx="990360" cy="45720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Arrow 49"/>
          <p:cNvSpPr/>
          <p:nvPr/>
        </p:nvSpPr>
        <p:spPr>
          <a:xfrm>
            <a:off x="4324320" y="495288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50"/>
          <p:cNvSpPr/>
          <p:nvPr/>
        </p:nvSpPr>
        <p:spPr>
          <a:xfrm>
            <a:off x="5634360" y="2590920"/>
            <a:ext cx="243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ectrons in usual soli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Schrodinger eq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51"/>
          <p:cNvSpPr/>
          <p:nvPr/>
        </p:nvSpPr>
        <p:spPr>
          <a:xfrm>
            <a:off x="5632560" y="4648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ectrons in graphe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Dirac equ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5703840" y="3276720"/>
            <a:ext cx="1219320" cy="1038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2"/>
          <a:stretch/>
        </p:blipFill>
        <p:spPr>
          <a:xfrm>
            <a:off x="5703840" y="5332320"/>
            <a:ext cx="1447920" cy="690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l Eff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ic field developed across two faces of conductor in the direction j × H when a current j flows across a magnetic field 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overed in 198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h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n integ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low temperature and strong magnetic fi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-integer quantum Hall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y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4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ˑ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+ ½)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h  (N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an integer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room temperature  (300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182280" y="61070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alibri"/>
              </a:rPr>
              <a:t>Novoselov et al, 20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5943600" y="3683160"/>
            <a:ext cx="2819520" cy="233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ical Propert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22:04:53Z</dcterms:created>
  <dc:creator>Jongwoo</dc:creator>
  <dc:description/>
  <dc:language>en-US</dc:language>
  <cp:lastModifiedBy>Veronica</cp:lastModifiedBy>
  <dcterms:modified xsi:type="dcterms:W3CDTF">2010-10-23T20:04:02Z</dcterms:modified>
  <cp:revision>344</cp:revision>
  <dc:subject/>
  <dc:title>Variable-temperature micromagnetic study of epitaxially grown MnAs films on GaAs(001)</dc:title>
</cp:coreProperties>
</file>